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74F3-D480-4C36-BC56-771BBAA2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072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EAD0-6D81-4F42-97F2-00CAB726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072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734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4A75-5E8D-4063-9834-AE903442C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87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636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07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87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636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35CA-036A-47FE-B62C-82FA9F33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CB6D-D338-4D53-BF71-06D82F6F5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6AD6D-99A2-4F5C-A879-9345C580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4B6A-ADD1-4140-B2EA-52D96A5A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826E6-A5FE-4CE6-A36C-6B21680A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0527-8415-49AA-9B5A-7EB126C8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72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8007-4BBF-4B45-BF9C-B35345938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9072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DD3B0-D9D4-4C2E-94D5-32F26E29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A4B0-2373-4CFE-A25B-27EE8D60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734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E74E-FF97-4DE4-AFDA-3403A7B1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5D7F-428C-4794-A00D-CD1BFAF8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9072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9968-D8F8-4E6E-9C64-4BC3BECF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734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986C-6053-460C-A112-630EA75C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1872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4636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907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1872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4636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0C75-FC2E-4F1A-9AFE-B5952018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35EC-1237-4DF1-958E-BBAC4F73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BA35-D570-4364-BD19-E3718A8FC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624D-BF0D-4B3B-BDDB-1A94D0F7B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72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F58C-FB75-4B9C-A3F4-B4137952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072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7DAD-6D56-4E8A-92F2-9C56F60C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734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9DBA-F32F-4A23-A440-C3D8E396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34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91DC-33ED-4692-9577-60F8934F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2234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4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2234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4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2234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4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2234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4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2234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4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4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4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347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065A-EFD6-4819-B41A-52FB57226629}" type="slidenum">
              <a:rPr b="0" lang="en-US" sz="1400" spc="-1" strike="noStrike">
                <a:solidFill>
                  <a:srgbClr val="22347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02888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9072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2234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47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2234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47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2234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47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2234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47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2234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47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47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347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2347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DEC6-9755-40F3-A54E-D5015BD28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Allegory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story in which the characters represent 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bstract qualities or ideas.  For example, in 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westerns, the sheriff represents the good, and 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outlaw represents evil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Climax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point at which the action in a story or play reaches its emotional peak. </a:t>
            </a:r>
            <a:br>
              <a:rPr sz="4400"/>
            </a:b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46784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3471"/>
                </a:solidFill>
                <a:latin typeface="Arial"/>
              </a:rPr>
              <a:t>Conflict:</a:t>
            </a:r>
            <a:br>
              <a:rPr sz="4000"/>
            </a:br>
            <a:r>
              <a:rPr b="0" lang="en-US" sz="4000" spc="-1" strike="noStrike">
                <a:solidFill>
                  <a:srgbClr val="223471"/>
                </a:solidFill>
                <a:latin typeface="Arial"/>
              </a:rPr>
              <a:t>The elements that create a plot.  Traditionally, every plot is build from the most basic elements of a conflict and an eventual resolution.  The conflict can be internal (within one character) or external (among or between characters, society, and/or nature). </a:t>
            </a:r>
            <a:endParaRPr b="0" lang="en-US" sz="40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Contrast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o explain how two things differ.  To compare and contrast is to explain how two things are alike and how they are different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Couplets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pair of rhyming lines in a poem often set off from the rest of the poem.  Shakespeare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s sonnets all end in couplets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3471"/>
                </a:solidFill>
                <a:latin typeface="Arial"/>
              </a:rPr>
              <a:t>Denouement:</a:t>
            </a:r>
            <a:br>
              <a:rPr sz="4000"/>
            </a:br>
            <a:r>
              <a:rPr b="0" lang="en-US" sz="4000" spc="-1" strike="noStrike">
                <a:solidFill>
                  <a:srgbClr val="223471"/>
                </a:solidFill>
                <a:latin typeface="Arial"/>
              </a:rPr>
              <a:t>The resolution of the conflict in a plot after the climax.  It also refers to the resolution of the action in a story or play after the principal drama is resolved—in other words, tying up the loose ends or wrapping up a story. </a:t>
            </a:r>
            <a:endParaRPr b="0" lang="en-US" sz="40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Dramatic Monologue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poem with a fictional narrator addressed to someone who identity the audience knows, but who does not say anything.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Elegy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poem mourning the dead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3915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End rhyme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Rhyming words that are at the ends of their respective lines—what we typically think of as normal rhyme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Epic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long poem narrating the adventures of a heroic figure—for example, Homer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s </a:t>
            </a:r>
            <a:r>
              <a:rPr b="0" i="1" lang="en-US" sz="4400" spc="-1" strike="noStrike">
                <a:solidFill>
                  <a:srgbClr val="223471"/>
                </a:solidFill>
                <a:latin typeface="Arial"/>
              </a:rPr>
              <a:t>The Odyssey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39152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Fable: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story that illustrates a moral often using animals as the character—for example, </a:t>
            </a:r>
            <a:r>
              <a:rPr b="0" i="1" lang="en-US" sz="4400" spc="-1" strike="noStrike">
                <a:solidFill>
                  <a:srgbClr val="223471"/>
                </a:solidFill>
                <a:latin typeface="Arial"/>
              </a:rPr>
              <a:t>The Tortoise and the Hare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Alliteration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repetition of first consonants in a group of words as in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Peter Piper Picked a Peck of Pickled Peppers.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Figurative Language: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Language that does not mean exactly what it says.  For example, you can call someone who is very angry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steaming.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 Unless steam was actually coming out of your ears, you were using figurative language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First Person Point of View:</a:t>
            </a: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point of view of writing which the narrator refers to himself as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I.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Foreshadowing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technique in which an author gives clues about something that will happen later in the story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Free Verse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Poetry with no set 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meter (rhythm) or 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rhyme scheme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Genre:</a:t>
            </a: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kind of style usually art or literature.  Some literary genres are mysteries, westerns, and romances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Hyperbole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huge exaggeration.  For example,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Dan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s the funniest guy on the planet!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or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at baseball card is worth a zillion dollars!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Iambic pentameter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en-syllable lines in which every other syllable is stressed.  For example: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With eyes like stars upon the brave night air.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5438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3471"/>
                </a:solidFill>
                <a:latin typeface="Arial"/>
              </a:rPr>
              <a:t>Imagery:</a:t>
            </a:r>
            <a:br>
              <a:rPr sz="4000"/>
            </a:br>
            <a:r>
              <a:rPr b="0" lang="en-US" sz="4000" spc="-1" strike="noStrike">
                <a:solidFill>
                  <a:srgbClr val="223471"/>
                </a:solidFill>
                <a:latin typeface="Arial"/>
              </a:rPr>
              <a:t>The use of description that helps the reader imagine how something looks, sounds, feels, smells, or taste.  Most of the time, it refers to appearance.  For example, </a:t>
            </a:r>
            <a:r>
              <a:rPr b="0" lang="ja-JP" sz="40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223471"/>
                </a:solidFill>
                <a:latin typeface="Arial"/>
              </a:rPr>
              <a:t>The young bird</a:t>
            </a:r>
            <a:r>
              <a:rPr b="0" lang="ja-JP" sz="4000" spc="-1" strike="noStrike">
                <a:solidFill>
                  <a:srgbClr val="223471"/>
                </a:solidFill>
                <a:latin typeface="Arial"/>
              </a:rPr>
              <a:t>’</a:t>
            </a:r>
            <a:r>
              <a:rPr b="0" lang="en-US" sz="4000" spc="-1" strike="noStrike">
                <a:solidFill>
                  <a:srgbClr val="223471"/>
                </a:solidFill>
                <a:latin typeface="Arial"/>
              </a:rPr>
              <a:t>s white, feathered wings flutter as he made his way across the nighttime sky.</a:t>
            </a:r>
            <a:r>
              <a:rPr b="0" lang="ja-JP" sz="40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000" spc="-1" strike="noStrike">
                <a:solidFill>
                  <a:srgbClr val="223471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Internal rhyme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rhyme that occurs within one line such as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He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s King of the Swing.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Irony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Language that conveys a certain ideas by saying just he opposite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Allusion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reference to something or someone often literary.  For instance, if you were trying to instill confidence in a friend and said,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Use the force,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that would be an allusion to Stars Wars.  The verb form of allusion is to allude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Literal Language: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Language that means 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exactly what it says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Lyric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type of poetry that expresses the poet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s emotions.  It often tells some sort of brief story, engaging the reading in the experience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Metaphor:</a:t>
            </a: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comparison that doesn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 use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like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or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s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—such as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He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s a rock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or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I am an island.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Meter:</a:t>
            </a: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pattern of stressed and unstressed syllables in the lines of a poem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Monologue:</a:t>
            </a: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long speech by one character in a play or story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Mood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emotional atmosphere of a given piece of writing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Motif: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theme or pattern that 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recurs in a work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Myth: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legend that embodies the beliefs of people and offers some explanation for natural and social phenomena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Onomatopoeia: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use of words that sound like what they mean such as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buzz.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Paradox: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seeming contradiction.  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For example,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It was the best 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of times. It was the worst of times.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Antagonist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major character who opposes the protagonist in a story or play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Parody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humorous, exaggerated imitation of another work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Personification: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Giving inanimate object human characteristics. For example,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flames reached for the child hovering in the corner.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Plot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action in the story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Prose: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Writing organized into sentences and paragraphs.  In other words, normal writing—not poetry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Protagonist: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main character of a novel, play, or story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Pun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use of a word in a way that plays on its different meanings.  For example,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Noticing the bunch of bananas, the hungry gorilla went ape.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Quatrain: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four-line stanza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Rhetorical Question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question not meant to be answered such as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Why can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 we just get along?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Sarcasm: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Language that conveys a certain idea by saying just he opposite such as if it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s raining outside and you say,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My what a beautiful day.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Satire:</a:t>
            </a: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work that makes fun of something or someone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Archetype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character who represents a certain type of person.  For example, Daniel Boone is an archetype of the early American frontiersman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Sensory imagery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Imagery that has to do with something you can see, hear, taste, smell, or feel.  For example,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stinging, salty air drenched his face.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Simile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comparison that uses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like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or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s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For example,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I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m as hungry as a wolf,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or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My love is like a rose.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Soliloquy: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monologue in which a character expresses his or her thoughts to the audience and does not intend the other characters to hear them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Sonnet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fourteen-line poem written iambic pentameter.  Different kinds of sonnets have different rhyme schemes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Stanza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section of poetry separated from the sections before and after it; a verse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paragraph.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Subplot: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A line of action 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secondary to the main story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Symbolism: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use of one things to represent another.  For example, a dove is a symbol of peace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Theme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central idea of a work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Tone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author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s attitude toward his or her subject.  For example, a tone could be pessimistic, optimistic, or angry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Voice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narrative point of view whether it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s in the first, second, or third person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Assonance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repetition of vowel 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sounds as in 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Days wane away.</a:t>
            </a:r>
            <a:r>
              <a:rPr b="0" lang="ja-JP" sz="4400" spc="-1" strike="noStrike">
                <a:solidFill>
                  <a:srgbClr val="223471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Atmosphere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overall feeling of a work, which is related to tone and mood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Blank verse: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Unrhymed lines of poetry 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usually in iambic pentameter.  Plenty of modern poetry is written in blank verse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3471"/>
                </a:solidFill>
                <a:latin typeface="Arial"/>
              </a:rPr>
              <a:t>Characterization:</a:t>
            </a: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223471"/>
                </a:solidFill>
                <a:latin typeface="Arial"/>
              </a:rPr>
              <a:t>The means by which an author establishes character.  An author may directly describe the appearance and personality of character or show it through action or dialogue. </a:t>
            </a:r>
            <a:endParaRPr b="0" lang="en-US" sz="4400" spc="-1" strike="noStrike">
              <a:solidFill>
                <a:srgbClr val="2234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5T23:58:39Z</dcterms:created>
  <dc:creator>Judy Honaker</dc:creator>
  <dc:description/>
  <dc:language>en-US</dc:language>
  <cp:lastModifiedBy>SMHS</cp:lastModifiedBy>
  <dcterms:modified xsi:type="dcterms:W3CDTF">2014-04-26T19:40:44Z</dcterms:modified>
  <cp:revision>9</cp:revision>
  <dc:subject/>
  <dc:title>Literary Terms Teaching Powerpoint</dc:title>
</cp:coreProperties>
</file>